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7005638" cy="9291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5600" cy="929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79000" y="696600"/>
            <a:ext cx="4645080" cy="348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Welcome participants.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4403BA-08F2-472A-9CB9-3437BDA450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0836E4-2EDF-4E41-9EE8-18C2D8424A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360DDB-50F2-4876-8D16-C2B9DEECCD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862CF8-6D6C-4512-9120-2F602E5587D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800BBA-2146-48DF-9506-EC1E2037C9B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3F0AA8-1B89-4882-B7EF-70F1809694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B123A2-59DC-4C5B-9CAA-5F1021E595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EC6CB2-22D1-4CE2-9222-2C48D53BA7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70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087D4A-A668-4B45-B44D-84D69A91A8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7663F7-52FC-4EB6-BAA0-55839459FE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1CD91D-EF0B-4943-8AD3-AFF1A9A7D3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1AD119-212A-4599-AB1D-038F88BE41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" descr=""/>
          <p:cNvPicPr/>
          <p:nvPr/>
        </p:nvPicPr>
        <p:blipFill>
          <a:blip r:embed="rId2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462440" y="624492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7C3BB-2E69-4ADA-9A20-A6F3CE695C5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2" descr=""/>
          <p:cNvPicPr/>
          <p:nvPr/>
        </p:nvPicPr>
        <p:blipFill>
          <a:blip r:embed="rId3"/>
          <a:stretch/>
        </p:blipFill>
        <p:spPr>
          <a:xfrm>
            <a:off x="260280" y="5506920"/>
            <a:ext cx="1652760" cy="455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"/>
          <p:cNvSpPr/>
          <p:nvPr/>
        </p:nvSpPr>
        <p:spPr>
          <a:xfrm>
            <a:off x="0" y="0"/>
            <a:ext cx="9144000" cy="6535800"/>
          </a:xfrm>
          <a:prstGeom prst="rect">
            <a:avLst/>
          </a:prstGeom>
          <a:gradFill rotWithShape="0">
            <a:gsLst>
              <a:gs pos="0">
                <a:srgbClr val="d1d1f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55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"/>
          <p:cNvPicPr/>
          <p:nvPr/>
        </p:nvPicPr>
        <p:blipFill>
          <a:blip r:embed="rId2"/>
          <a:stretch/>
        </p:blipFill>
        <p:spPr>
          <a:xfrm>
            <a:off x="325440" y="270000"/>
            <a:ext cx="2654280" cy="730080"/>
          </a:xfrm>
          <a:prstGeom prst="rect">
            <a:avLst/>
          </a:prstGeom>
          <a:ln w="0">
            <a:noFill/>
          </a:ln>
        </p:spPr>
      </p:pic>
      <p:sp>
        <p:nvSpPr>
          <p:cNvPr id="47" name="Text Box 4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A1C60-5522-48AD-8CBA-5438FBBCD2A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236196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490d8"/>
                </a:solidFill>
                <a:latin typeface="Tahoma"/>
                <a:ea typeface="Tahoma"/>
              </a:rPr>
              <a:t>Math CAMPPP 2011</a:t>
            </a:r>
            <a:endParaRPr b="0" lang="en-US" sz="48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533160" y="2666520"/>
            <a:ext cx="8305560" cy="35053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Arial"/>
              </a:rPr>
              <a:t>Concrete Pathway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Algebraic Thinking</a:t>
            </a:r>
            <a:r>
              <a:rPr b="1" i="1" lang="en-CA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4000" spc="-1" strike="noStrike">
                <a:solidFill>
                  <a:srgbClr val="000000"/>
                </a:solidFill>
                <a:latin typeface="Arial"/>
              </a:rPr>
              <a:t>Breakout #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b5ca9"/>
                </a:solidFill>
                <a:latin typeface="Arial"/>
              </a:rPr>
              <a:t>Algebraic Thinking</a:t>
            </a: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 – Breakout </a:t>
            </a:r>
            <a:r>
              <a:rPr b="1" lang="en-US" sz="3600" spc="-1" strike="noStrike">
                <a:solidFill>
                  <a:srgbClr val="2b5ca9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380520" y="10663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ction: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urriculum Views </a:t>
            </a:r>
            <a:r>
              <a:rPr b="1" lang="en-CA" sz="2800" spc="-1" strike="noStrike">
                <a:solidFill>
                  <a:srgbClr val="ff0000"/>
                </a:solidFill>
                <a:latin typeface="Arial"/>
              </a:rPr>
              <a:t> ~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0</a:t>
            </a:r>
            <a:r>
              <a:rPr b="1" lang="en-CA" sz="2800" spc="-1" strike="noStrike">
                <a:solidFill>
                  <a:srgbClr val="ff0000"/>
                </a:solidFill>
                <a:latin typeface="Arial"/>
              </a:rPr>
              <a:t>m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M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thematical proces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posters are pos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Go to the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process that </a:t>
            </a:r>
            <a:r>
              <a:rPr b="1" i="1" lang="en-CA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best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reflects 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ype of thinking we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have been do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to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Groups take a minute to share together, then share their thinking with the whole grou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83428-3DAD-40E9-980E-48FFA3C06F1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96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F7972-D0B9-4589-9FE9-A618D7098AB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b5ca9"/>
                </a:solidFill>
                <a:latin typeface="Arial"/>
              </a:rPr>
              <a:t>Algebraic Thinking</a:t>
            </a: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 – Breakout </a:t>
            </a:r>
            <a:r>
              <a:rPr b="1" lang="en-US" sz="3600" spc="-1" strike="noStrike">
                <a:solidFill>
                  <a:srgbClr val="2b5ca9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C60DF-EE49-4C28-A4CC-FDFF393B9CF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4AD81-4455-4912-8248-D7B663C8151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380880" y="685800"/>
            <a:ext cx="822960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132120" tIns="50760" bIns="50760" anchor="t">
            <a:noAutofit/>
          </a:bodyPr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onsolidate: Personal Reflection</a:t>
            </a: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 ~ 5 m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flect on your learning today, and record your though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onsid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- interesting  ideas and strateg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- questions, things to follow up 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3" descr="Z:\Clip Art\Travel &amp; Leisure\Vacations (F - Q)\Map.wmf"/>
          <p:cNvPicPr/>
          <p:nvPr/>
        </p:nvPicPr>
        <p:blipFill>
          <a:blip r:embed="rId2"/>
          <a:stretch/>
        </p:blipFill>
        <p:spPr>
          <a:xfrm>
            <a:off x="6099120" y="2884320"/>
            <a:ext cx="1227240" cy="11415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4" descr="Z:\Clip Art\Travel &amp; Leisure\Vacations (F - Q)\Passport 1.wmf"/>
          <p:cNvPicPr/>
          <p:nvPr/>
        </p:nvPicPr>
        <p:blipFill>
          <a:blip r:embed="rId3"/>
          <a:stretch/>
        </p:blipFill>
        <p:spPr>
          <a:xfrm rot="21444000">
            <a:off x="7543440" y="3200040"/>
            <a:ext cx="838080" cy="109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b5ca9"/>
                </a:solidFill>
                <a:latin typeface="Arial"/>
              </a:rPr>
              <a:t>Algebraic Thinking</a:t>
            </a: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 – Breakout </a:t>
            </a:r>
            <a:r>
              <a:rPr b="1" lang="en-US" sz="3600" spc="-1" strike="noStrike">
                <a:solidFill>
                  <a:srgbClr val="2b5ca9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7FDDD-8DBB-4636-A0C4-2A54C062F7E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285AC-69F9-4D18-AD04-DA94AEAAAC1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457200" y="609480"/>
            <a:ext cx="822960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132120" tIns="50760" bIns="50760" anchor="t">
            <a:noAutofit/>
          </a:bodyPr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onsolidate:  Feedback</a:t>
            </a: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 ~ 5 m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lease share your personal perspec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y completing an exit car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wo things I learned today about algebraic reasoning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 am wondering about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bd06662_" descr=""/>
          <p:cNvPicPr/>
          <p:nvPr/>
        </p:nvPicPr>
        <p:blipFill>
          <a:blip r:embed="rId2"/>
          <a:stretch/>
        </p:blipFill>
        <p:spPr>
          <a:xfrm>
            <a:off x="7045200" y="990720"/>
            <a:ext cx="2098800" cy="1858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b5ca9"/>
                </a:solidFill>
                <a:latin typeface="Arial"/>
              </a:rPr>
              <a:t>Algebraic Thinking</a:t>
            </a: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 – Breakout </a:t>
            </a:r>
            <a:r>
              <a:rPr b="1" lang="en-US" sz="3600" spc="-1" strike="noStrike">
                <a:solidFill>
                  <a:srgbClr val="2b5ca9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-289080">
              <a:spcBef>
                <a:spcPts val="700"/>
              </a:spcBef>
              <a:tabLst>
                <a:tab algn="l" pos="0"/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Feedback and Observations from yesterday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289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C9355-E04A-4EDE-A45E-A1E99485740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54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1383C-C5D4-4C27-ADB0-67BCD479B9E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b5ca9"/>
                </a:solidFill>
                <a:latin typeface="Arial"/>
              </a:rPr>
              <a:t>Algebraic Thinking</a:t>
            </a: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 – Breakout </a:t>
            </a:r>
            <a:r>
              <a:rPr b="1" lang="en-US" sz="3600" spc="-1" strike="noStrike">
                <a:solidFill>
                  <a:srgbClr val="2b5ca9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-289080">
              <a:spcBef>
                <a:spcPts val="700"/>
              </a:spcBef>
              <a:tabLst>
                <a:tab algn="l" pos="0"/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Learning Goal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289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reate and explore concrete models of 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289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xplore connections between concrete patterns and algebraic thinking (generalizations, justification, conjectur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289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ppreciate the power of multiple representations to deepen and support algebraic th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289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nnect algebraic thinking to mathematical process expectations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58E9A-3B8B-4B69-8003-D4067EAD0F9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59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C8074-EBEC-44BF-A2FD-C0BDD65D127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b5ca9"/>
                </a:solidFill>
                <a:latin typeface="Arial"/>
              </a:rPr>
              <a:t>Algebraic Thinking</a:t>
            </a: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 – Breakout </a:t>
            </a:r>
            <a:r>
              <a:rPr b="1" lang="en-US" sz="3600" spc="-1" strike="noStrike">
                <a:solidFill>
                  <a:srgbClr val="2b5ca9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1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5761D-4846-498D-A138-6789CE29267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63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DAA8D-BD49-4A73-AA18-4E381243D35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4"/>
          <p:cNvSpPr/>
          <p:nvPr/>
        </p:nvSpPr>
        <p:spPr>
          <a:xfrm>
            <a:off x="380880" y="1066680"/>
            <a:ext cx="83822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132120" tIns="50760" bIns="50760" anchor="t">
            <a:noAutofit/>
          </a:bodyPr>
          <a:p>
            <a:pPr marL="520560" indent="-480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Minds On </a:t>
            </a: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~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20</a:t>
            </a: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 min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0560" indent="-480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20560" indent="-480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Build a </a:t>
            </a:r>
            <a:r>
              <a:rPr b="0" i="1" lang="en-US" sz="3200" spc="-1" strike="noStrike">
                <a:solidFill>
                  <a:srgbClr val="009999"/>
                </a:solidFill>
                <a:latin typeface="Arial"/>
                <a:ea typeface="Times New Roman"/>
              </a:rPr>
              <a:t>concre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model of any function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244520" indent="-533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Is the underlying pattern evid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244520" indent="-533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Does the model facilitate generaliz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244520" indent="-5331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0560" indent="-480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Stay and Stra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244520" indent="-533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xplore other groups’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244520" indent="-533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an you guess the func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0560" indent="-480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0560" indent="-480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0560" indent="-480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b5ca9"/>
                </a:solidFill>
                <a:latin typeface="Arial"/>
              </a:rPr>
              <a:t>Algebraic Thinking</a:t>
            </a: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 – Breakout </a:t>
            </a:r>
            <a:r>
              <a:rPr b="1" lang="en-US" sz="3600" spc="-1" strike="noStrike">
                <a:solidFill>
                  <a:srgbClr val="2b5ca9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380880" y="6854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Minds On: Reflecting ~ 5 m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nk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did you notice about the models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questions do you have about concrete models of functions?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i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re your observations and questions with your group or a part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hare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ord common questions on chart paper for future refe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59AD4-E5DD-4C9D-BB85-2932DCC3122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69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FE9DF-DF79-4883-854F-FD5D56E7193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b5ca9"/>
                </a:solidFill>
                <a:latin typeface="Arial"/>
              </a:rPr>
              <a:t>Algebraic Thinking</a:t>
            </a: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 – Breakout </a:t>
            </a:r>
            <a:r>
              <a:rPr b="1" lang="en-US" sz="3600" spc="-1" strike="noStrike">
                <a:solidFill>
                  <a:srgbClr val="2b5ca9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799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Learning Self-Assess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comfortable are you with concrete represent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Gree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od to go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– I feel very comfortable, and could expla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t to someone e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Yello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roceed with caution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’m getting it,  but I nee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ore pract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top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’m feeling confused and would like mor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explan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CDBF5-5C81-4EEF-B483-49EF0152856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63EAD-E590-4C00-9826-D4D8573FAAA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bd07304_" descr=""/>
          <p:cNvPicPr/>
          <p:nvPr/>
        </p:nvPicPr>
        <p:blipFill>
          <a:blip r:embed="rId1"/>
          <a:stretch/>
        </p:blipFill>
        <p:spPr>
          <a:xfrm>
            <a:off x="7162920" y="685800"/>
            <a:ext cx="1822320" cy="1812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b5ca9"/>
                </a:solidFill>
                <a:latin typeface="Arial"/>
              </a:rPr>
              <a:t>Algebraic Thinking</a:t>
            </a: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 – Breakout </a:t>
            </a:r>
            <a:r>
              <a:rPr b="1" lang="en-US" sz="3600" spc="-1" strike="noStrike">
                <a:solidFill>
                  <a:srgbClr val="2b5ca9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7617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 fontScale="98000"/>
          </a:bodyPr>
          <a:p>
            <a:pPr marL="636120" indent="-597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36120" indent="-597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ction: Secret Pattern </a:t>
            </a: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~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10</a:t>
            </a: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 m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36120" indent="-597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nd a partner who showed the same colour as yo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6120" indent="-597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ou will be given a card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6120" indent="-597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Secret Pattern Building Challe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6120" indent="-597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 square tiles to build the pattern with your partn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165400" indent="-372960" algn="r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f you are done, turn your card upside down, walk around and try to guess other people’s patterns!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CF59D-1C19-41CA-80D9-4BB46CCF28B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79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74A30-BE5B-48D8-B684-92EE8A89F5E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715000" y="2351160"/>
            <a:ext cx="3429000" cy="1077840"/>
          </a:xfrm>
          <a:prstGeom prst="cloudCallout">
            <a:avLst>
              <a:gd name="adj1" fmla="val -23379"/>
              <a:gd name="adj2" fmla="val 4299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172200" y="259092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4560" indent="-57456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99"/>
                </a:solidFill>
                <a:latin typeface="Arial"/>
              </a:rPr>
              <a:t>Hint:  Use stickies to  label the te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b5ca9"/>
                </a:solidFill>
                <a:latin typeface="Arial"/>
              </a:rPr>
              <a:t>Algebraic Thinking</a:t>
            </a: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 – Breakout </a:t>
            </a:r>
            <a:r>
              <a:rPr b="1" lang="en-US" sz="3600" spc="-1" strike="noStrike">
                <a:solidFill>
                  <a:srgbClr val="2b5ca9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380880" y="9903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ction: Representing</a:t>
            </a: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 ~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5 m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ind the other pair with the same secret pattern to make a group of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ork through 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  <a:ea typeface="Times New Roman"/>
              </a:rPr>
              <a:t>Representing Activi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One pair choose </a:t>
            </a:r>
            <a:r>
              <a:rPr b="1" i="1" lang="en-US" sz="2000" spc="-1" strike="noStrike">
                <a:solidFill>
                  <a:srgbClr val="009999"/>
                </a:solidFill>
                <a:latin typeface="Arial"/>
                <a:ea typeface="Times New Roman"/>
              </a:rPr>
              <a:t>Graph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option, one choose </a:t>
            </a:r>
            <a:r>
              <a:rPr b="1" i="1" lang="en-US" sz="2000" spc="-1" strike="noStrike">
                <a:solidFill>
                  <a:srgbClr val="009999"/>
                </a:solidFill>
                <a:latin typeface="Arial"/>
                <a:ea typeface="Times New Roman"/>
              </a:rPr>
              <a:t>Linking Cub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cord you work and ideas on chart pa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CCCBC-1432-4B2E-AF30-08B875C9991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86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4E34B-ACCB-4EAF-8F5A-963C7DF1FE2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b5ca9"/>
                </a:solidFill>
                <a:latin typeface="Arial"/>
              </a:rPr>
              <a:t>Algebraic Thinking</a:t>
            </a: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 – Breakout </a:t>
            </a:r>
            <a:r>
              <a:rPr b="1" lang="en-US" sz="3600" spc="-1" strike="noStrike">
                <a:solidFill>
                  <a:srgbClr val="2b5ca9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80880" y="10663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ction:  Exploring Conjectures</a:t>
            </a: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 ~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15</a:t>
            </a: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 m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bserve and discuss the work of the other grou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ink about  what you heard about 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  <a:ea typeface="Times New Roman"/>
              </a:rPr>
              <a:t>conjectur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at the Plenary session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oes this work provide an opportunity for conjectur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What sort of conjectures might students make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How might they justify their conjectur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69D3D-1387-41DF-9C54-F13FBD97E85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91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6E1AE-BDBC-4367-8EC7-F95FF044B67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SC</dc:creator>
  <dc:description/>
  <dc:language>en-US</dc:language>
  <cp:lastModifiedBy>Robin</cp:lastModifiedBy>
  <dcterms:modified xsi:type="dcterms:W3CDTF">2011-08-09T17:09:50Z</dcterms:modified>
  <cp:revision>29</cp:revision>
  <dc:subject/>
  <dc:title>&lt;Title&gt;</dc:title>
</cp:coreProperties>
</file>